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880" y="141264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292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3880" y="3650400"/>
            <a:ext cx="20286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41400" y="365040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41400" y="1412640"/>
            <a:ext cx="307440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2920" y="3650400"/>
            <a:ext cx="6300720" cy="20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2280"/>
            <a:ext cx="882000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6300720" cy="42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79280" y="6561000"/>
            <a:ext cx="1067040" cy="238320"/>
            <a:chOff x="179280" y="6561000"/>
            <a:chExt cx="1067040" cy="238320"/>
          </a:xfrm>
        </p:grpSpPr>
        <p:pic>
          <p:nvPicPr>
            <p:cNvPr id="8" name="" descr=""/>
            <p:cNvPicPr/>
            <p:nvPr/>
          </p:nvPicPr>
          <p:blipFill>
            <a:blip r:embed="rId2"/>
            <a:stretch/>
          </p:blipFill>
          <p:spPr>
            <a:xfrm>
              <a:off x="179280" y="6561000"/>
              <a:ext cx="106704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PlaceHolder 3"/>
            <p:cNvSpPr>
              <a:spLocks noGrp="1"/>
            </p:cNvSpPr>
            <p:nvPr>
              <p:ph type="ftr" idx="1"/>
            </p:nvPr>
          </p:nvSpPr>
          <p:spPr>
            <a:xfrm>
              <a:off x="179280" y="6561000"/>
              <a:ext cx="1067040" cy="23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84360" y="6524640"/>
            <a:ext cx="6553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Siemens </a:t>
            </a:r>
            <a:fld id="{A4FBA9AF-88C4-4D62-B6E1-4B7EACA0B2BF}" type="datetime"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28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2A5C038C-3F9D-4B99-A76D-D6D527C365C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000" y="2924280"/>
            <a:ext cx="882000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746680"/>
            <a:ext cx="4572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ember 2nd, 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 MD 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- Strictly Confidential 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2000" y="152280"/>
            <a:ext cx="882000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924280"/>
            <a:ext cx="88203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ource and Roadmap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olfgang Klebs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2000" y="152280"/>
            <a:ext cx="88138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S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7280" y="1085760"/>
            <a:ext cx="440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S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12920" y="938160"/>
            <a:ext cx="8383320" cy="51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8360" y="1085760"/>
            <a:ext cx="425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W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47680" y="1216080"/>
            <a:ext cx="8574120" cy="52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Resource plan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>
            <a:off x="2543040" y="349416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30320" y="349416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Thre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8407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 resource transparence is gi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68440" y="2157480"/>
            <a:ext cx="568656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and Budget planning incl. HC in the PMC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MC delivers the load and budget overview (pl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cts from M0/C0/P0 onwards in P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193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V delivers the exact project overview &amp; critical path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8240" y="5429160"/>
            <a:ext cx="7896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 approach used by other Siemens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460520" y="261612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460520" y="3720960"/>
            <a:ext cx="29196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C covers the Budget and Scenario planning, Primavera the Projec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080" y="3780000"/>
            <a:ext cx="6098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nning /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draf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95360" y="3780000"/>
            <a:ext cx="61128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pec. freez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06640" y="3780000"/>
            <a:ext cx="122076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27400" y="3780000"/>
            <a:ext cx="8827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amples test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0120" y="3780000"/>
            <a:ext cx="183024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inal samples avail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0360" y="3780000"/>
            <a:ext cx="21733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cceptance from platfomr / product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o predevelopment proje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080" y="3538440"/>
            <a:ext cx="7937640" cy="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2280" bIns="-62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25520" y="350352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318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824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464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27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5912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5480" y="3508200"/>
            <a:ext cx="6984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71840" y="3511440"/>
            <a:ext cx="698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8636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92720" y="35114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54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2596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3268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46840" y="351648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53200" y="35114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9560" y="35193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65920" y="351648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9400" y="351648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6848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6880" y="310824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10824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62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71800" y="3114720"/>
            <a:ext cx="577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3680" y="310824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624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33764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8520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2596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24360" y="310824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10640" y="3114720"/>
            <a:ext cx="542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35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89920" y="33847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12240" y="3780000"/>
            <a:ext cx="610920" cy="24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2560" y="311472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4080" y="33703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2240" y="4035600"/>
            <a:ext cx="55944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* Based on a draft version of the HW predevelopment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2560" y="5896080"/>
            <a:ext cx="64756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ote: Component Projects can be started whenever necess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140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28720" y="4881600"/>
            <a:ext cx="515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44600" y="4881600"/>
            <a:ext cx="103356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Implementat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78160" y="4881600"/>
            <a:ext cx="74772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Test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Ready for Integ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25880" y="4881600"/>
            <a:ext cx="1550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25960" y="4610160"/>
            <a:ext cx="5868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05360" y="4614840"/>
            <a:ext cx="58680" cy="71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3824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5240" y="4267080"/>
            <a:ext cx="60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637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560" y="4203720"/>
            <a:ext cx="48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203720"/>
            <a:ext cx="3733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0560" y="447840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4863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46720" y="4262400"/>
            <a:ext cx="460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6760" y="450540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3920" y="4219560"/>
            <a:ext cx="372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1400" y="447192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03240" y="4203720"/>
            <a:ext cx="603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1400" y="4626000"/>
            <a:ext cx="4365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549520" y="5049720"/>
            <a:ext cx="4682880" cy="920520"/>
            <a:chOff x="2549520" y="5049720"/>
            <a:chExt cx="4682880" cy="920520"/>
          </a:xfrm>
        </p:grpSpPr>
        <p:sp>
          <p:nvSpPr>
            <p:cNvPr id="173" name=""/>
            <p:cNvSpPr/>
            <p:nvPr/>
          </p:nvSpPr>
          <p:spPr>
            <a:xfrm>
              <a:off x="2636280" y="5727600"/>
              <a:ext cx="5158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Stud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53600" y="5727600"/>
              <a:ext cx="51624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0200" y="5727600"/>
              <a:ext cx="103356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Implementation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04120" y="5727600"/>
              <a:ext cx="74808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Test -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Ready for Integra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2200" y="5727600"/>
              <a:ext cx="1549800" cy="2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93840" y="545220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129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1560" y="545616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31320" y="5460120"/>
              <a:ext cx="58320" cy="71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85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08880" y="5057280"/>
              <a:ext cx="6026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237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74800" y="5049720"/>
              <a:ext cx="4892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8320" y="5049720"/>
              <a:ext cx="3740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56520" y="532404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02320" y="533196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73040" y="5108040"/>
              <a:ext cx="459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03440" y="535068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9520" y="5066640"/>
              <a:ext cx="3736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6280" y="5317200"/>
              <a:ext cx="0" cy="3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9800" y="5049720"/>
              <a:ext cx="602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36280" y="5470560"/>
              <a:ext cx="436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-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123920" y="2149560"/>
            <a:ext cx="203400" cy="1388880"/>
          </a:xfrm>
          <a:custGeom>
            <a:avLst/>
            <a:gdLst/>
            <a:ahLst/>
            <a:rect l="l" t="t" r="r" b="b"/>
            <a:pathLst>
              <a:path w="136" h="1043">
                <a:moveTo>
                  <a:pt x="136" y="0"/>
                </a:moveTo>
                <a:cubicBezTo>
                  <a:pt x="68" y="162"/>
                  <a:pt x="0" y="325"/>
                  <a:pt x="0" y="499"/>
                </a:cubicBezTo>
                <a:cubicBezTo>
                  <a:pt x="0" y="673"/>
                  <a:pt x="68" y="858"/>
                  <a:pt x="136" y="104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77760" y="2149560"/>
            <a:ext cx="349560" cy="2476440"/>
          </a:xfrm>
          <a:custGeom>
            <a:avLst/>
            <a:gdLst/>
            <a:ahLst/>
            <a:rect l="l" t="t" r="r" b="b"/>
            <a:pathLst>
              <a:path w="234" h="1860">
                <a:moveTo>
                  <a:pt x="234" y="0"/>
                </a:moveTo>
                <a:cubicBezTo>
                  <a:pt x="124" y="72"/>
                  <a:pt x="14" y="144"/>
                  <a:pt x="7" y="454"/>
                </a:cubicBezTo>
                <a:cubicBezTo>
                  <a:pt x="0" y="764"/>
                  <a:pt x="94" y="1312"/>
                  <a:pt x="189" y="18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0120" y="2149560"/>
            <a:ext cx="225360" cy="1388880"/>
          </a:xfrm>
          <a:custGeom>
            <a:avLst/>
            <a:gdLst/>
            <a:ahLst/>
            <a:rect l="l" t="t" r="r" b="b"/>
            <a:pathLst>
              <a:path w="151" h="1043">
                <a:moveTo>
                  <a:pt x="0" y="1043"/>
                </a:moveTo>
                <a:cubicBezTo>
                  <a:pt x="60" y="812"/>
                  <a:pt x="121" y="582"/>
                  <a:pt x="136" y="408"/>
                </a:cubicBezTo>
                <a:cubicBezTo>
                  <a:pt x="151" y="234"/>
                  <a:pt x="120" y="117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0120" y="2149560"/>
            <a:ext cx="428400" cy="2476440"/>
          </a:xfrm>
          <a:custGeom>
            <a:avLst/>
            <a:gdLst/>
            <a:ahLst/>
            <a:rect l="l" t="t" r="r" b="b"/>
            <a:pathLst>
              <a:path w="287" h="1860">
                <a:moveTo>
                  <a:pt x="0" y="1860"/>
                </a:moveTo>
                <a:cubicBezTo>
                  <a:pt x="128" y="1448"/>
                  <a:pt x="257" y="1036"/>
                  <a:pt x="272" y="726"/>
                </a:cubicBezTo>
                <a:cubicBezTo>
                  <a:pt x="287" y="416"/>
                  <a:pt x="188" y="208"/>
                  <a:pt x="9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67320" y="2149560"/>
            <a:ext cx="915840" cy="3322440"/>
          </a:xfrm>
          <a:custGeom>
            <a:avLst/>
            <a:gdLst/>
            <a:ahLst/>
            <a:rect l="l" t="t" r="r" b="b"/>
            <a:pathLst>
              <a:path w="612" h="2495">
                <a:moveTo>
                  <a:pt x="0" y="2495"/>
                </a:moveTo>
                <a:cubicBezTo>
                  <a:pt x="238" y="1863"/>
                  <a:pt x="476" y="1232"/>
                  <a:pt x="544" y="816"/>
                </a:cubicBezTo>
                <a:cubicBezTo>
                  <a:pt x="612" y="400"/>
                  <a:pt x="510" y="200"/>
                  <a:pt x="4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5880" y="2882880"/>
            <a:ext cx="60948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sic </a:t>
            </a:r>
            <a:br>
              <a:rPr sz="700"/>
            </a:b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5360" y="2639880"/>
            <a:ext cx="6112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on paper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3400" y="2882880"/>
            <a:ext cx="24462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1. system board ru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49600" y="2639880"/>
            <a:ext cx="60984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CB tested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59440" y="2874960"/>
            <a:ext cx="129060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ready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for product dev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50040" y="2631960"/>
            <a:ext cx="142380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compliant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and fully work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3840" y="2874960"/>
            <a:ext cx="949320" cy="241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Platform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aintainance </a:t>
            </a:r>
            <a:br>
              <a:rPr sz="700"/>
            </a:b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00" y="2639880"/>
            <a:ext cx="272880" cy="2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BS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7720" y="2155680"/>
            <a:ext cx="79754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68760" bIns="-68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14240" y="211464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20600" y="211932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27320" y="211464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3368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4004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478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542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605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66920" y="211932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73280" y="2122560"/>
            <a:ext cx="702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8144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8780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94160" y="2122560"/>
            <a:ext cx="6840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005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068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150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14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2776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341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4048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48640" y="2127240"/>
            <a:ext cx="680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55000" y="212256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1360" y="2130480"/>
            <a:ext cx="68040" cy="73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67720" y="2127240"/>
            <a:ext cx="6984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0840" y="2127240"/>
            <a:ext cx="68400" cy="71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9440" y="1719360"/>
            <a:ext cx="4410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960" y="198612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69920" y="199548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66880" y="171936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8840" y="1719360"/>
            <a:ext cx="441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6368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6720" y="1585800"/>
            <a:ext cx="71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be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43240" y="1765440"/>
            <a:ext cx="5763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260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7760" y="197964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60840" y="1716120"/>
            <a:ext cx="4399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51520" y="1523880"/>
            <a:ext cx="6541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1)P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64360" y="1987560"/>
            <a:ext cx="0" cy="336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224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122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4600" y="2270160"/>
            <a:ext cx="679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8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58760" y="2370240"/>
            <a:ext cx="6764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536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2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32440" y="22384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6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08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2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12000" y="236052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0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43680" y="2238480"/>
            <a:ext cx="67788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 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485200" y="1727280"/>
            <a:ext cx="442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6080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3688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11720" y="2754360"/>
            <a:ext cx="0" cy="361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54160" y="2452680"/>
            <a:ext cx="5432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1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6724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2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1720" y="2452680"/>
            <a:ext cx="542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@3 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008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9560" y="1727280"/>
            <a:ext cx="654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1577880"/>
            <a:ext cx="882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w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30640" y="1994040"/>
            <a:ext cx="0" cy="336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1400" y="2330280"/>
            <a:ext cx="6775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4-14 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5452920" y="148068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67480" y="1260360"/>
            <a:ext cx="18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0800000">
            <a:off x="1123920" y="1558440"/>
            <a:ext cx="39384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5880" y="1338120"/>
            <a:ext cx="192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1145880" y="3061800"/>
            <a:ext cx="393480" cy="1350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400" y="2843280"/>
            <a:ext cx="2550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Predevelop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0800000">
            <a:off x="3398760" y="50277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9960" y="4443480"/>
            <a:ext cx="1473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6600" y="103500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chematic Platfor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7600" y="6165720"/>
            <a:ext cx="835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For NG SW project specification for planning not su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1747800" y="4150800"/>
            <a:ext cx="393840" cy="1335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47600" y="5713560"/>
            <a:ext cx="393840" cy="133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9560" y="5637240"/>
            <a:ext cx="76212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6600"/>
                </a:solidFill>
                <a:latin typeface="Arial"/>
              </a:rPr>
              <a:t>Availability PV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74760" y="2847600"/>
            <a:ext cx="6338880" cy="639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6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Load Cha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C faces a very critical situation – securing SG2 and future topics with budget &amp; HC cut im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120" y="1085760"/>
            <a:ext cx="459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* for SG2 Release (optimized) and future topic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51840" y="6540480"/>
            <a:ext cx="186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HC and consultants w/o Mana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43160" y="42577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06 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66840" y="293688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20 Cons./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‘ Cons.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12920" y="1353960"/>
            <a:ext cx="8399160" cy="5156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679840" y="1359000"/>
            <a:ext cx="2832120" cy="917640"/>
          </a:xfrm>
          <a:prstGeom prst="rect">
            <a:avLst/>
          </a:prstGeom>
          <a:solidFill>
            <a:srgbClr val="c0c0c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7840" indent="-17784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ture Topic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 operator features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2 Rel. 2&amp;3 optim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utlook for the actual FY shows an massive overall overload –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P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24000" y="1252440"/>
            <a:ext cx="8472240" cy="52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C Antenna is one of the most critical are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000" y="1085760"/>
            <a:ext cx="423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EMC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12920" y="1300320"/>
            <a:ext cx="8396280" cy="51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0560" y="-604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HW faces a serious challenge for UMT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latform agreement 26.11; All products included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7640" y="1085760"/>
            <a:ext cx="440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chart (PD w/o Internal services) ST HW 2.12.200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12920" y="1238400"/>
            <a:ext cx="8269200" cy="50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.Braun / Com MD PBM PG8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2:57:33Z</dcterms:created>
  <dc:creator>demx11k2</dc:creator>
  <dc:description/>
  <dc:language>en-US</dc:language>
  <cp:lastModifiedBy>Schwab Christof</cp:lastModifiedBy>
  <dcterms:modified xsi:type="dcterms:W3CDTF">2004-12-02T15:17:09Z</dcterms:modified>
  <cp:revision>958</cp:revision>
  <dc:subject/>
  <dc:title>PRÄSENTATIONSTITEL MAX. 2-ZEILI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5870021</vt:r8>
  </property>
  <property fmtid="{D5CDD505-2E9C-101B-9397-08002B2CF9AE}" pid="3" name="_AuthorEmail">
    <vt:lpwstr>katrin.braun@siemens.com</vt:lpwstr>
  </property>
  <property fmtid="{D5CDD505-2E9C-101B-9397-08002B2CF9AE}" pid="4" name="_AuthorEmailDisplayName">
    <vt:lpwstr>Braun Katrin ICM MP PBM PG85</vt:lpwstr>
  </property>
  <property fmtid="{D5CDD505-2E9C-101B-9397-08002B2CF9AE}" pid="5" name="_EmailSubject">
    <vt:lpwstr>Status_85_gen_final.ppt</vt:lpwstr>
  </property>
  <property fmtid="{D5CDD505-2E9C-101B-9397-08002B2CF9AE}" pid="6" name="_ReviewingToolsShownOnce">
    <vt:lpwstr/>
  </property>
</Properties>
</file>